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4BB-64FC-455D-B082-5ABD6B32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FCC-C921-4DBD-8DB4-C168F1A6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9EE-7AF6-4DC1-8661-345E31ED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ABD-C1E6-47E8-82AC-E408DB1F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B54-4A65-4FE4-9B88-A28064E4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0EA-8E06-4E1B-9004-9064359F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01C-0E46-4BAF-8787-DFA903BE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433-6BDA-47B8-97CC-A934F7E8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B35-A924-466F-8620-FA486B7D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B93-0572-4DC4-BB9A-A5CFD85D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0AF-E97F-4EE5-96E8-3F0C2EFD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901-480D-4982-99E7-70240063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8415-1D56-4CCA-8973-5799489FA58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ülkeyi tanımalısınız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hçedeki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öpleri toplayal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ydın, düşüncelerini özgürce yansıtmal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borçtan kurtulsa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Kalbinize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 iyilik yapı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Çorapların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çıkar ki rahatlayası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Ah, onu bir bulsam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Tahoma"/>
                <a:ea typeface="Tahoma"/>
              </a:rPr>
              <a:t>Evin kapısını açık bırakmalısın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ahoma"/>
                <a:ea typeface="Tahoma"/>
              </a:rPr>
              <a:t>Burada olup biteni anlatma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ff0000"/>
                </a:solidFill>
                <a:latin typeface="Tahoma"/>
                <a:ea typeface="Tahoma"/>
              </a:rPr>
              <a:t>Bir nefeste güneşi söndüreyim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tr-TR" sz="4400" spc="-1" strike="noStrike">
                <a:solidFill>
                  <a:srgbClr val="000000"/>
                </a:solidFill>
                <a:latin typeface="Tahoma"/>
                <a:ea typeface="Tahoma"/>
              </a:rPr>
              <a:t>Bize kimse karışmasın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ff0000"/>
                </a:solidFill>
                <a:latin typeface="Tahoma"/>
                <a:ea typeface="Tahoma"/>
              </a:rPr>
              <a:t>Biri dua edince, bildirim gel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Merak etme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se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ir gönülle kollarına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atılsa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00"/>
                </a:solidFill>
                <a:latin typeface="Arial"/>
              </a:rPr>
              <a:t>Giyelim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</a:rPr>
              <a:t>en güzel giysileri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Hiç kimse ağlamasın yurdumd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ir dakika,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işin iç yüzünü anlatay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Bana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yardım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etmelisi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ahtiyarlar arasına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katılsa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ostlar beni hatırlasın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6T20:06:50Z</dcterms:modified>
  <cp:revision>106</cp:revision>
  <dc:subject/>
  <dc:title>KONU 1</dc:title>
</cp:coreProperties>
</file>